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17FD-959E-4E83-8908-F051EDE5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C4-155A-4CB2-B832-BCBBAEA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8BD3-2C00-46C6-9E9F-F51BC8DD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9807-D292-4C3F-B208-5A5FE299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0416-5B71-4CB3-B0CF-FDBDAFC9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3F09-0591-4B95-A5F9-6CF5B89B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95F7-7793-4C80-AFC3-099F94A6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AA57-638F-4A68-B85A-C38414CA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4E3-862E-4835-8F46-3ECBC764C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52B7-1AF6-4E23-8AAB-2CCD52B9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6B8C-C89E-4E3B-B515-8590C8EF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1998-5743-48FB-AC82-023085AE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5083-18FA-4BF6-BA42-C53281CC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E49F-005D-41C0-8997-8DDA9B8F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D097B-3189-4A06-9897-841E2EB4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066B-D677-4287-882E-EAFEA3785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7E75-C4AE-4EF4-B432-543C191D0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D711-EA62-44B6-8913-A4404E31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44E7-6BC8-4419-8A39-D06BADFC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5BF-9AB5-471A-9482-DE25CFF7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4708-1475-41EB-9073-3903BF52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8C71-131A-4EEE-A136-6CB4FD9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F26-B0A9-4833-8885-47A27F3B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9F93-8B76-4B93-B31C-76B37E44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F982-8418-4DA7-B84E-65CFE71B43B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easant Grove High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ring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CF31-AF4A-4114-A80A-92DAD2B9D1A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Networ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y 1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wo or more computers and other devices (printers or scanners) that are connected, for the purpose of sharing data and program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952880" y="2081160"/>
            <a:ext cx="350532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l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computer connected to a network that distributes resources to other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tains the software to manage and process files for other network use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st Compu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ny computer the provides services to network us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Used more commonly with the Interne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Terms (continued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orks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a personal computer connected to a networ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computer in the classro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fers to the software on a computer that allows the user to access 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vell Netwa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1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1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10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10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Interface Card (NIC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2920" y="1752120"/>
            <a:ext cx="3924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mall circuit board that coverts the digital signals from a computer into signals that can travel over a network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sktop Computers have the NIC inside the case with a jack on the outside for the network cabl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Our classroom comput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tebook or Laptop Computers have a special card that fits into a slot or opening in the cas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icture on this slide is the NIC for a Notebook or Laptop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46465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" dur="100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etwork Connections Devic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de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nds and receives data to and from computers over telephone lin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ub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several components of a network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connects at least two networ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atewa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device that serves as an entrance to another networ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ll of these can be used alone or combin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1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1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cal Area Network (L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uter network that is located within a limited geographical area, such as a school or small busin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SJMS Networ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683160" y="2162160"/>
            <a:ext cx="17683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ide Area Network (WA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terconnected group of computers and peripherals that cover a large geographical area, such as multiple build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Jordan School District Network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76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e Intern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276084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P Address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unique identifying number assigned to each computer connected to the interne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ample – 204.127.102.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computer on a network should have its own separate IP Address or conflicts will occur when there are duplicate addres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6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1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8:11:27Z</dcterms:created>
  <dc:creator>Michelle Guymon</dc:creator>
  <dc:description/>
  <dc:language>en-US</dc:language>
  <cp:lastModifiedBy>larry.phelps</cp:lastModifiedBy>
  <dcterms:modified xsi:type="dcterms:W3CDTF">2006-03-22T23:03:17Z</dcterms:modified>
  <cp:revision>24</cp:revision>
  <dc:subject/>
  <dc:title>Networks</dc:title>
</cp:coreProperties>
</file>